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40C-57DE-4B96-81A2-33E1A512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8FB-B01A-47B6-B53F-8385D12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4FE-8B48-4F92-8760-1B694195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649-546D-4690-B9D7-EB22C671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04E-9BF5-4F31-B752-B64E6D37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A38-3DA1-49F0-A36E-F7FE9E19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14E-2BF6-4F58-A65D-C687F45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32F-6CFF-4364-A8B9-76BF3E38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B72-B50A-45DF-ADFA-422033F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390-E0E0-4B2D-8C10-3743855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2B9-734A-45FD-9EAC-1B2CC66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0BD-9EE4-4D16-8651-61F5B60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0BD-E9C5-485B-8706-8B6EE2A56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blc1519f03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Mblasp10f04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3160" y="763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cleaning: UV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blasp10f02" descr=""/>
          <p:cNvPicPr/>
          <p:nvPr/>
        </p:nvPicPr>
        <p:blipFill>
          <a:blip r:embed="rId3"/>
          <a:stretch/>
        </p:blipFill>
        <p:spPr>
          <a:xfrm>
            <a:off x="152280" y="5526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8520" y="5634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before UV ozone 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880" y="373392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w. better tip (same 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1760" y="609480"/>
            <a:ext cx="27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eaning (and 5 days la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30440" y="380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t seems it does work a bit at le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7720" y="4114800"/>
            <a:ext cx="411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us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tip in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V ozone cleaner for 1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room 828, contact person Rob Zonderv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with ethanol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uspect that it is the last ethanol rinse that is import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562720"/>
            <a:ext cx="3809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e is MBL/MASP complexes. It seems we only see MAS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nsity is probably very low due to a rinse with buffer before DI water rin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haps complexes sedimented due to 6 min ultracentrifugation or they wre washed 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32280" y="6485040"/>
            <a:ext cx="14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iette October 15 200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43:30Z</dcterms:created>
  <dc:creator>Henriette Jensenius</dc:creator>
  <dc:description/>
  <dc:language>en-US</dc:language>
  <cp:lastModifiedBy>hjensen</cp:lastModifiedBy>
  <dcterms:modified xsi:type="dcterms:W3CDTF">2003-07-11T09:04:22Z</dcterms:modified>
  <cp:revision>5</cp:revision>
  <dc:subject/>
  <dc:title>PowerPoint Presentation</dc:title>
</cp:coreProperties>
</file>